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17833"/>
        <c:axId val="73499415"/>
      </c:barChart>
      <c:catAx>
        <c:axId val="57917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9415"/>
        <c:crosses val="autoZero"/>
        <c:auto val="1"/>
        <c:lblAlgn val="ctr"/>
        <c:lblOffset val="100"/>
        <c:noMultiLvlLbl val="0"/>
      </c:catAx>
      <c:valAx>
        <c:axId val="73499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17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39D-54EE-40B1-9D0B-4A1F8E6E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1E4-99E4-4121-A550-236BAB76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E8B-8C14-4499-84A0-7FE4EC3A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6C3-A0E4-419B-8D2D-EC2189B7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DA5-ACB4-409A-9E16-B44E7DE7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E7D-3ED8-4A96-ADCA-8419E38D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ADB-C3BF-41AF-B759-28B0837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676-B8D6-4FFB-8B7A-A8AD960C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326-D21C-4E75-B6C7-F123674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142-B042-481C-B961-53B1D21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7DE-9755-4C37-8550-5F531E3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074-2BD4-4AD7-8291-F90DF78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3BA9-7F30-4078-80D6-EAAF13FA7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