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42691"/>
        <c:axId val="56813967"/>
      </c:barChart>
      <c:catAx>
        <c:axId val="68642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13967"/>
        <c:crosses val="autoZero"/>
        <c:auto val="1"/>
        <c:lblAlgn val="ctr"/>
        <c:lblOffset val="100"/>
        <c:noMultiLvlLbl val="0"/>
      </c:catAx>
      <c:valAx>
        <c:axId val="56813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42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3AE-7233-4E15-ADC3-00DA7409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6D7-E5BB-4FBB-86A1-2CEC8B45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F47-E8FC-485F-8F8F-6915E76E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55F-134C-47B6-B9E2-E22A654C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A29-D92D-4BE3-96CB-29D97C4D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ACE-CA5B-4426-AB5E-66B53BCF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3E1-8B7D-4EDC-8877-04EAA56B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736-75B1-4FDA-9792-B90C5F23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C03-9E0D-4E7B-9115-0CB667EE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17B8-0264-4F09-B91F-DEDB158B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2B3-578D-4478-9787-2465F4AC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686-87B3-4A11-8999-382CEAB6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28BD8-BC78-4496-A706-2EC7FD5B23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