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16491"/>
        <c:axId val="87970578"/>
      </c:barChart>
      <c:catAx>
        <c:axId val="12016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0578"/>
        <c:crosses val="autoZero"/>
        <c:auto val="1"/>
        <c:lblAlgn val="ctr"/>
        <c:lblOffset val="100"/>
        <c:noMultiLvlLbl val="0"/>
      </c:catAx>
      <c:valAx>
        <c:axId val="87970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16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290-2D66-4EAB-82BD-074B6082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8FA-7992-4A0C-81B3-8DCD7BFE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809-A499-46CC-B027-36B48E16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7AC-2C07-45DC-83C9-61C3E814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4F6-3643-476B-86EE-17FE00B5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5D1-AE27-4A0F-8958-FBB1A5CA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EDB-DBA2-463D-8FB4-8F5E24E3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846-A23E-4824-B16C-95D0CEB7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A46-B3C0-4529-B55B-C745F45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CC6-2F36-46B7-BFB7-D19A88AC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843-6059-4D0C-A424-DF5DC85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335-C708-413D-AD58-58252F2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99569-A45B-4335-828F-88A6B7333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