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637880"/>
        <c:axId val="96697169"/>
      </c:barChart>
      <c:catAx>
        <c:axId val="366378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697169"/>
        <c:crosses val="autoZero"/>
        <c:auto val="1"/>
        <c:lblAlgn val="ctr"/>
        <c:lblOffset val="100"/>
        <c:noMultiLvlLbl val="0"/>
      </c:catAx>
      <c:valAx>
        <c:axId val="966971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6378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4EA5-BE95-4A57-841A-8E120AA69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BA35-2FF0-4C81-8D50-BF6175E2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C304-BF65-406E-BEE5-BE591903D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7749-7C08-4BD8-A420-F9481A30D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84A9-AC54-4B9D-B0B0-F253EA98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B440-12A7-433C-87B7-A487ECDF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E27A-BC0F-4710-88B3-81253629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D934-C505-4BE9-9B63-CB4EFE1E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E5E4-CBB0-420E-9E59-294C15C6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5950-A694-4C9B-8AD0-234197E4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AA5E-DEE2-44D4-8FB8-6E26CC10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A292-5685-4551-8F0A-367F7C02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59BC24-E7C6-4823-B23A-F008897C99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