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58281"/>
        <c:axId val="49177695"/>
      </c:barChart>
      <c:catAx>
        <c:axId val="699582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77695"/>
        <c:crosses val="autoZero"/>
        <c:auto val="1"/>
        <c:lblAlgn val="ctr"/>
        <c:lblOffset val="100"/>
        <c:noMultiLvlLbl val="0"/>
      </c:catAx>
      <c:valAx>
        <c:axId val="491776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582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0D1F-C43A-4A02-AACF-25615F1A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5B16-EA3E-4026-9BE5-EEE2C678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4BE3-EACF-430D-948F-C0169C75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0737-A5AE-47F1-A3C8-1A77421F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ADE8-07D6-4356-BA9D-970E4CFD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BB02-554A-46BC-8B0B-561CC2E3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D550-90C1-46EE-A484-331A6F79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5490-7FF7-4C2D-B99F-2E214CAD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C797-9F95-4C6C-85CC-B4F0CD94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3F94-806E-4B26-A583-B60864E0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6A2C-B8BE-41C9-B12B-0E5FFE05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B544-4FB2-45A1-8B51-0A0FB3B6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DDA37-C5D0-4190-BB9C-6F7E7545B6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