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93616"/>
        <c:axId val="68231573"/>
      </c:barChart>
      <c:catAx>
        <c:axId val="45593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31573"/>
        <c:crosses val="autoZero"/>
        <c:auto val="1"/>
        <c:lblAlgn val="ctr"/>
        <c:lblOffset val="100"/>
        <c:noMultiLvlLbl val="0"/>
      </c:catAx>
      <c:valAx>
        <c:axId val="68231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93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D14-4B58-43DA-9196-107B2784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AC6-E7A4-4630-BBDB-B1C9720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9A9-08F5-4A15-9415-416589D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087-C8F5-410F-BB08-630712D4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C36-1099-4D81-A9AF-7E94EA8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C63-1C41-442E-8131-9115053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59A-E250-4E51-8F69-9E05C9F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2C7-1E8E-4310-9D44-CF918C9F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586-CBA6-41EC-B199-D997B3CE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9D0-7F3D-4B76-931F-9B11640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10A-A19F-4AA0-8204-4B41EE2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3BF-139C-42B0-8941-20DCC55A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03E6E-646A-47FB-9397-32D09A7549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