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32318"/>
        <c:axId val="67802411"/>
      </c:barChart>
      <c:catAx>
        <c:axId val="29932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02411"/>
        <c:crosses val="autoZero"/>
        <c:auto val="1"/>
        <c:lblAlgn val="ctr"/>
        <c:lblOffset val="100"/>
        <c:noMultiLvlLbl val="0"/>
      </c:catAx>
      <c:valAx>
        <c:axId val="67802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32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509-E246-45A7-82BB-E30EE643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05D5-952C-41A2-8D60-1D650527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ADE-DA1B-4ED4-96E6-0B91C9ED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8D5-A353-4408-9DA1-2DDF8950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8BA-86F9-4800-BFC5-1C7F67DA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E45-94F1-485E-8402-485EDC7A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FEA-03AD-420E-A353-2E21469A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DD9-0966-49A7-961C-E450C70C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8EF-4B6E-448A-8C8C-D18C2E86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728-9044-43C5-A20D-97B17D30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16F-A1A1-40E2-B82F-E92F5E5B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FA4-FBB2-477A-A2DE-D197DCDB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14578-9C23-416D-A553-7FEB3DC12B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