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10527"/>
        <c:axId val="94962046"/>
      </c:barChart>
      <c:catAx>
        <c:axId val="93210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62046"/>
        <c:crosses val="autoZero"/>
        <c:auto val="1"/>
        <c:lblAlgn val="ctr"/>
        <c:lblOffset val="100"/>
        <c:noMultiLvlLbl val="0"/>
      </c:catAx>
      <c:valAx>
        <c:axId val="94962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10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7CA-D4C5-4ADC-81E6-5D1E3ECD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32F-D645-4602-AC37-78C6093F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849-4C1B-48F1-98B6-6E2ED2DF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E46-AB8A-4837-B6A2-701CD713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F83-C72B-4A59-99F7-EC9784AB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2F6-7557-48AD-9287-F33D37E6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271-7321-4FF5-B6F8-117F822C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D4F-B938-4F21-8B41-43BB75C3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AB4-21D7-478F-AA03-2B7D2F60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F32-462F-499C-8DFC-82D98D5A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F81-0EBC-4469-A824-D6AC459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81B-E244-4839-BAC9-BA00EEB8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656EC-F9DA-4370-B0AA-87D9B15B05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