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41565"/>
        <c:axId val="3287637"/>
      </c:barChart>
      <c:catAx>
        <c:axId val="71741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7637"/>
        <c:crosses val="autoZero"/>
        <c:auto val="1"/>
        <c:lblAlgn val="ctr"/>
        <c:lblOffset val="100"/>
        <c:noMultiLvlLbl val="0"/>
      </c:catAx>
      <c:valAx>
        <c:axId val="3287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1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9C7-8E32-4B90-BEC3-7F69D629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28A-6012-4F7B-B790-44A443D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E4D-1A9D-4F1E-85C1-64ACBE1B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BBE-B8EE-4A1A-95A9-3D9DE408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016-142F-480C-ACE2-74A1E1A1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165-9102-488E-A024-6E4B2CF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3B0-D7A4-46FB-900E-A53D7ED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DF9-9CBC-4F46-AA70-B083D586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235-EC60-42A4-855E-4B00396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466-313A-4283-9E6F-4EEE226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15E-2C57-4689-99A7-65C45FA6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64D-13D4-4681-8E77-E27DDBD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29CD-46AE-4092-828F-B0B94F0188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