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11679"/>
        <c:axId val="92784316"/>
      </c:barChart>
      <c:catAx>
        <c:axId val="81411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84316"/>
        <c:crosses val="autoZero"/>
        <c:auto val="1"/>
        <c:lblAlgn val="ctr"/>
        <c:lblOffset val="100"/>
        <c:noMultiLvlLbl val="0"/>
      </c:catAx>
      <c:valAx>
        <c:axId val="92784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11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436-D4A3-48D4-A0EF-B96652A6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E44-887D-4174-BBD3-B5964C61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F6E-C2BA-4019-AA11-C22BBA36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007-8E7B-4CE1-97F0-3ED77AB3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B8AA-45BA-4480-A3AC-A22FA830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FC4-3709-4FDA-ACF2-8172DDA9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44A2-14E4-4858-A955-CA9BD355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67E-F951-449F-82F1-6BBFA4EA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2E8-6C6D-40DC-9AD4-B1CDBD75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991-E2D4-4EEF-8DF4-0780E17A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FD8-D154-4F05-A403-7662ADAE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9C9-2D9B-40C5-9708-82D55826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B4A69-BD52-4A19-8A5B-2D149EE631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