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01797"/>
        <c:axId val="66161943"/>
      </c:barChart>
      <c:catAx>
        <c:axId val="15701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61943"/>
        <c:crosses val="autoZero"/>
        <c:auto val="1"/>
        <c:lblAlgn val="ctr"/>
        <c:lblOffset val="100"/>
        <c:noMultiLvlLbl val="0"/>
      </c:catAx>
      <c:valAx>
        <c:axId val="66161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01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DCC-4440-40E5-91F0-5101B65C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330-86E7-4772-9632-4F99409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392-8F73-4CDB-8D3B-505E913D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269-6E2A-4C9A-857A-CAE9348B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E97-C1CE-495B-B6AB-26D73A0C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6C1-2A83-4D55-9A85-C9997031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65C-5EDC-4B17-BC3B-D751938F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6FF-C2AF-460F-A762-33A55F52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B2C-087B-46D7-90F9-C96F53DC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F76-4871-4F0A-9C30-5D3958E0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FFB-5C8A-4740-91D4-DCF308E5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A58-BCCC-4865-B082-45049987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EB6EC-CE87-4B08-9312-4C2B54D0C8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