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560420"/>
        <c:axId val="54030607"/>
      </c:barChart>
      <c:catAx>
        <c:axId val="54560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30607"/>
        <c:crosses val="autoZero"/>
        <c:auto val="1"/>
        <c:lblAlgn val="ctr"/>
        <c:lblOffset val="100"/>
        <c:noMultiLvlLbl val="0"/>
      </c:catAx>
      <c:valAx>
        <c:axId val="54030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60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FE8-224B-4542-B838-64FEBF6D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BF3-8763-429C-9895-DBFF37BD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CD8-C4DC-44F8-BBC8-8FAE707F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6CF-0D3B-4AA2-8B5C-E92D6FEE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9B1-7689-4979-881F-582BC7D1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3AD-128F-48B0-BEDA-A7F32C20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B0A-CA36-4EC3-A23E-0C6DCCE2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253-8537-44BE-AE71-08F52B83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956-01E2-4DD1-B866-F4CD5B8B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6A36-CB27-4A35-BD89-376E158A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2DE-F1B0-4122-9FAB-625E0E3F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EB4-6F2B-4571-B915-93FE1E44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574B6-F091-41F3-9CB4-5A7B48E685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