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10625"/>
        <c:axId val="27306532"/>
      </c:barChart>
      <c:catAx>
        <c:axId val="71010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06532"/>
        <c:crosses val="autoZero"/>
        <c:auto val="1"/>
        <c:lblAlgn val="ctr"/>
        <c:lblOffset val="100"/>
        <c:noMultiLvlLbl val="0"/>
      </c:catAx>
      <c:valAx>
        <c:axId val="27306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10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172-C9D4-4FF1-8882-30BD377A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E98-66FC-4A30-9074-837BE8FF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501-C8BC-48AB-A924-891A0E64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84F-76D3-4F28-89AB-D852EAD1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068-9AE6-4A91-BC0D-C1E2453D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A31-D9D1-4735-AD5D-3518541C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720-DB13-4356-B722-D61C0DB9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F49-1E90-4A14-BA27-131BF4BD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15B-840F-4259-963C-8DEF1484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0D4-B68D-442D-BB94-A22FCFBE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B6C-2F93-4950-8AE8-B8E67A75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BCF-513F-4527-BE53-835893F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843F9-568B-43A3-9733-4272A0C90B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